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56C-FAB2-4210-A840-1809AFEA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8D2-87BC-421C-A46C-A3012CD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92E-1092-411B-A9B1-C7372880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F93-3D7D-47D7-88C5-53177954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FF0-118D-491F-8DAD-FB5CDC99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0BB-650A-4593-9154-B8553BB3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E21-B68D-47FD-B6C4-0EC514CD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543-618A-454A-9A0F-DE259226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9E4-4D7F-4204-BEA4-B946EF0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6BB-38E1-4AF6-8529-8682D18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01F-2392-47D9-A8B8-A94BB9D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42C-B8E0-4732-8EB8-D70566C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592F-CA5B-4A6D-B7B7-25ED3329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9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 each of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52840" y="1979640"/>
                <a:ext cx="2095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09640" y="190656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92080" y="4324320"/>
                <a:ext cx="19051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78480" y="4324320"/>
                <a:ext cx="1904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05040" y="3108240"/>
                <a:ext cx="793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763640" y="317196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587840" y="3092400"/>
                <a:ext cx="1428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067440" y="3154320"/>
                <a:ext cx="952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075440" y="3208320"/>
                <a:ext cx="1047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9640" y="5229360"/>
                <a:ext cx="920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04880" y="5278320"/>
                <a:ext cx="1206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897280" y="5300640"/>
                <a:ext cx="666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75160" y="5229360"/>
                <a:ext cx="8888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30960" y="5245200"/>
                <a:ext cx="1301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738840" y="5292720"/>
                <a:ext cx="857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56000" y="3213000"/>
                <a:ext cx="603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51800" y="5300640"/>
                <a:ext cx="8888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 each of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11600" y="1979640"/>
                <a:ext cx="1778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30080" y="1906560"/>
                <a:ext cx="174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07920" y="4324320"/>
                <a:ext cx="1873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62640" y="4324320"/>
                <a:ext cx="1936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09640" y="3092400"/>
                <a:ext cx="984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63640" y="317196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94120" y="3108240"/>
                <a:ext cx="1016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162840" y="3154320"/>
                <a:ext cx="76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02520" y="3208320"/>
                <a:ext cx="793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9640" y="5229360"/>
                <a:ext cx="920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04880" y="5278320"/>
                <a:ext cx="1206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7280" y="5300640"/>
                <a:ext cx="666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459320" y="5229360"/>
                <a:ext cx="920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398920" y="5245200"/>
                <a:ext cx="1365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738840" y="5292720"/>
                <a:ext cx="857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44760" y="3213000"/>
                <a:ext cx="825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51800" y="5300640"/>
                <a:ext cx="8888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ionalise the following deno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11600" y="1052640"/>
                <a:ext cx="17780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77960" y="1052640"/>
                <a:ext cx="1650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4000" y="3821040"/>
                <a:ext cx="20635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44480" y="2205000"/>
                <a:ext cx="1523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17680" y="220500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19560" y="2214720"/>
                <a:ext cx="1936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270480" y="2205000"/>
                <a:ext cx="13971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639200" y="2205000"/>
                <a:ext cx="1396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14760" y="3726000"/>
                <a:ext cx="2793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26040" y="3710160"/>
                <a:ext cx="27939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81280" y="5084640"/>
                <a:ext cx="1746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762440" y="5322960"/>
                <a:ext cx="19051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ionalise the following deno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75320" y="1052640"/>
                <a:ext cx="1650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77960" y="1052640"/>
                <a:ext cx="1650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76120" y="3821040"/>
                <a:ext cx="21592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44480" y="2205000"/>
                <a:ext cx="1523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17680" y="220500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25840" y="2214720"/>
                <a:ext cx="1524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381720" y="220500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845480" y="2205000"/>
                <a:ext cx="984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666880" y="3726000"/>
                <a:ext cx="288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978520" y="3710160"/>
                <a:ext cx="2889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02080" y="5084640"/>
                <a:ext cx="1904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794120" y="5322960"/>
                <a:ext cx="1841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Trigon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e rule, Cosine Rule and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1 Sine Rul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017320" y="572760"/>
            <a:ext cx="4297680" cy="3439440"/>
            <a:chOff x="5017320" y="572760"/>
            <a:chExt cx="4297680" cy="3439440"/>
          </a:xfrm>
        </p:grpSpPr>
        <p:sp>
          <p:nvSpPr>
            <p:cNvPr id="217" name=""/>
            <p:cNvSpPr/>
            <p:nvPr/>
          </p:nvSpPr>
          <p:spPr>
            <a:xfrm>
              <a:off x="8019720" y="1676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19555800">
              <a:off x="5105520" y="1536480"/>
              <a:ext cx="3904920" cy="1511280"/>
            </a:xfrm>
            <a:prstGeom prst="triangle">
              <a:avLst>
                <a:gd name="adj" fmla="val 5072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3720" y="1219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3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05120" y="2286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7672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3340080"/>
                <a:ext cx="21542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sin112º = 23 sin 36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765440" y="4903920"/>
                <a:ext cx="1676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4.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19120" y="3340080"/>
                <a:ext cx="2057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 sin 67º = 9 sin 23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00360" y="4903920"/>
                <a:ext cx="1604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 = 3.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0240" y="213840"/>
            <a:ext cx="3651840" cy="3230280"/>
            <a:chOff x="5070240" y="213840"/>
            <a:chExt cx="3651840" cy="3230280"/>
          </a:xfrm>
        </p:grpSpPr>
        <p:sp>
          <p:nvSpPr>
            <p:cNvPr id="234" name=""/>
            <p:cNvSpPr/>
            <p:nvPr/>
          </p:nvSpPr>
          <p:spPr>
            <a:xfrm rot="2056200">
              <a:off x="5257800" y="990720"/>
              <a:ext cx="3276720" cy="1676160"/>
            </a:xfrm>
            <a:prstGeom prst="triangle">
              <a:avLst>
                <a:gd name="adj" fmla="val 19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1371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7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2920" y="1447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2514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3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609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42880" y="3340080"/>
                <a:ext cx="2009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sin 98º = 12 sin 18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789200" y="4903920"/>
                <a:ext cx="1625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3.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278240" y="412200"/>
            <a:ext cx="4632120" cy="2779200"/>
            <a:chOff x="4278240" y="412200"/>
            <a:chExt cx="4632120" cy="2779200"/>
          </a:xfrm>
        </p:grpSpPr>
        <p:sp>
          <p:nvSpPr>
            <p:cNvPr id="246" name=""/>
            <p:cNvSpPr/>
            <p:nvPr/>
          </p:nvSpPr>
          <p:spPr>
            <a:xfrm rot="9847800">
              <a:off x="4495320" y="963360"/>
              <a:ext cx="4267080" cy="1676520"/>
            </a:xfrm>
            <a:prstGeom prst="triangle">
              <a:avLst>
                <a:gd name="adj" fmla="val 76903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02320" y="609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8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73520" y="533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97560" y="2362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8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78240" y="2210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32080" y="3340080"/>
                <a:ext cx="2033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sin 39º = 12 sin 59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76240" y="4903920"/>
                <a:ext cx="1652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6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09880" y="434520"/>
            <a:ext cx="4876920" cy="3294360"/>
            <a:chOff x="3809880" y="434520"/>
            <a:chExt cx="4876920" cy="3294360"/>
          </a:xfrm>
        </p:grpSpPr>
        <p:sp>
          <p:nvSpPr>
            <p:cNvPr id="258" name=""/>
            <p:cNvSpPr/>
            <p:nvPr/>
          </p:nvSpPr>
          <p:spPr>
            <a:xfrm rot="11780400">
              <a:off x="4186080" y="990000"/>
              <a:ext cx="4267440" cy="2182680"/>
            </a:xfrm>
            <a:prstGeom prst="triangle">
              <a:avLst>
                <a:gd name="adj" fmla="val 6609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3800" y="1438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9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09880" y="1438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2352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2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720" y="2352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00600" y="60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9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1 Sine Rul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442880" y="3340080"/>
                <a:ext cx="2011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5 sin xº = 20 sin 110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219320" y="4938840"/>
                <a:ext cx="230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51…) = 48.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257800" y="876960"/>
            <a:ext cx="3124080" cy="3467880"/>
            <a:chOff x="5257800" y="876960"/>
            <a:chExt cx="3124080" cy="3467880"/>
          </a:xfrm>
        </p:grpSpPr>
        <p:sp>
          <p:nvSpPr>
            <p:cNvPr id="271" name=""/>
            <p:cNvSpPr/>
            <p:nvPr/>
          </p:nvSpPr>
          <p:spPr>
            <a:xfrm flipV="1" rot="15169800">
              <a:off x="5222160" y="1988280"/>
              <a:ext cx="3245040" cy="1244520"/>
            </a:xfrm>
            <a:prstGeom prst="triangle">
              <a:avLst>
                <a:gd name="adj" fmla="val 7565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80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5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712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8660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12952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ds and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f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50920" y="2276640"/>
                <a:ext cx="3591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3280" y="1987560"/>
                <a:ext cx="293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0920" y="3716280"/>
                <a:ext cx="30891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43280" y="3716280"/>
                <a:ext cx="40165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50920" y="5338800"/>
                <a:ext cx="2124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43280" y="5072040"/>
                <a:ext cx="2702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504800" y="3340080"/>
                <a:ext cx="1887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 sin xº = 8 sin 3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362240" y="4938840"/>
                <a:ext cx="2012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065…) = 45.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052880" y="96840"/>
            <a:ext cx="4938840" cy="3258360"/>
            <a:chOff x="4052880" y="96840"/>
            <a:chExt cx="4938840" cy="3258360"/>
          </a:xfrm>
        </p:grpSpPr>
        <p:sp>
          <p:nvSpPr>
            <p:cNvPr id="283" name=""/>
            <p:cNvSpPr/>
            <p:nvPr/>
          </p:nvSpPr>
          <p:spPr>
            <a:xfrm rot="20778000">
              <a:off x="4267080" y="533520"/>
              <a:ext cx="3962520" cy="2286000"/>
            </a:xfrm>
            <a:prstGeom prst="triangle">
              <a:avLst>
                <a:gd name="adj" fmla="val 7760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7120" y="289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5720" y="609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5520" y="2514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48720" y="914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492200" y="3340080"/>
                <a:ext cx="1913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990720" y="4343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5 sin yº = 12 sin 40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290600" y="4938840"/>
                <a:ext cx="2157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y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346…) = 47.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62520" y="313560"/>
            <a:ext cx="4901400" cy="3707280"/>
            <a:chOff x="3962520" y="313560"/>
            <a:chExt cx="4901400" cy="3707280"/>
          </a:xfrm>
        </p:grpSpPr>
        <p:sp>
          <p:nvSpPr>
            <p:cNvPr id="295" name=""/>
            <p:cNvSpPr/>
            <p:nvPr/>
          </p:nvSpPr>
          <p:spPr>
            <a:xfrm rot="12215400">
              <a:off x="4338360" y="1075680"/>
              <a:ext cx="4267080" cy="2182680"/>
            </a:xfrm>
            <a:prstGeom prst="triangle">
              <a:avLst>
                <a:gd name="adj" fmla="val 66093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685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62520" y="15242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.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2438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0120" y="1735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457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3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d y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504800" y="3340080"/>
                <a:ext cx="188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990720" y="4343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sin xº = 29 sin 5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79440" y="4938840"/>
                <a:ext cx="2181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1413…) = 45.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951000" y="543600"/>
            <a:ext cx="4911840" cy="3215160"/>
            <a:chOff x="3951000" y="543600"/>
            <a:chExt cx="4911840" cy="3215160"/>
          </a:xfrm>
        </p:grpSpPr>
        <p:sp>
          <p:nvSpPr>
            <p:cNvPr id="307" name=""/>
            <p:cNvSpPr/>
            <p:nvPr/>
          </p:nvSpPr>
          <p:spPr>
            <a:xfrm rot="20404200">
              <a:off x="4146480" y="1206360"/>
              <a:ext cx="4221360" cy="1889280"/>
            </a:xfrm>
            <a:prstGeom prst="triangle">
              <a:avLst>
                <a:gd name="adj" fmla="val 56870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53120" y="129528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52920" y="205740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5200" y="121932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9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48480" y="213372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343400" y="41911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nce y°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80 - 52 - 45.6 = 82.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152280" y="762120"/>
            <a:ext cx="5486400" cy="2593080"/>
            <a:chOff x="152280" y="762120"/>
            <a:chExt cx="5486400" cy="2593080"/>
          </a:xfrm>
        </p:grpSpPr>
        <p:sp>
          <p:nvSpPr>
            <p:cNvPr id="315" name=""/>
            <p:cNvSpPr/>
            <p:nvPr/>
          </p:nvSpPr>
          <p:spPr>
            <a:xfrm flipH="1">
              <a:off x="532800" y="1143000"/>
              <a:ext cx="3809880" cy="1752120"/>
            </a:xfrm>
            <a:prstGeom prst="triangle">
              <a:avLst>
                <a:gd name="adj" fmla="val 34708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15238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3720" y="28954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5760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2666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2280" y="259056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9000" y="2438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8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762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62120" y="35053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A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4052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1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11.7.Cos 48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4586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121 + 49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54Cos 48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195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6.95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5729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8.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89000"/>
            <a:ext cx="48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 1 Cosine rul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181480" y="1066320"/>
            <a:ext cx="3200400" cy="914760"/>
            <a:chOff x="5181480" y="106632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380200" y="121932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31" name=""/>
            <p:cNvGrpSpPr/>
            <p:nvPr/>
          </p:nvGrpSpPr>
          <p:grpSpPr>
            <a:xfrm>
              <a:off x="5181480" y="1676520"/>
              <a:ext cx="380880" cy="304560"/>
              <a:chOff x="5181480" y="16765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518148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525780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858000" y="1066320"/>
              <a:ext cx="380880" cy="305280"/>
              <a:chOff x="6858000" y="1066320"/>
              <a:chExt cx="380880" cy="305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858000" y="12193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934320" y="10663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001000" y="1142640"/>
              <a:ext cx="380880" cy="305280"/>
              <a:chOff x="8001000" y="1142640"/>
              <a:chExt cx="380880" cy="305280"/>
            </a:xfrm>
          </p:grpSpPr>
          <p:sp>
            <p:nvSpPr>
              <p:cNvPr id="338" name=""/>
              <p:cNvSpPr/>
              <p:nvPr/>
            </p:nvSpPr>
            <p:spPr>
              <a:xfrm>
                <a:off x="8001000" y="129564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8077320" y="1142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419480" y="907560"/>
            <a:ext cx="4066920" cy="2371680"/>
            <a:chOff x="1419480" y="907560"/>
            <a:chExt cx="4066920" cy="2371680"/>
          </a:xfrm>
        </p:grpSpPr>
        <p:sp>
          <p:nvSpPr>
            <p:cNvPr id="341" name=""/>
            <p:cNvSpPr/>
            <p:nvPr/>
          </p:nvSpPr>
          <p:spPr>
            <a:xfrm flipH="1" rot="21162000">
              <a:off x="1518480" y="1084320"/>
              <a:ext cx="2895840" cy="1752840"/>
            </a:xfrm>
            <a:prstGeom prst="triangle">
              <a:avLst>
                <a:gd name="adj" fmla="val 19736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44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112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3040" y="1219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505320" y="533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5053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40528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8.5.Cos 56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586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64 + 25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80Cos 56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51195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4.26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5729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6.7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457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486400" y="1066320"/>
            <a:ext cx="3200400" cy="914760"/>
            <a:chOff x="5486400" y="106632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5685120" y="121932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57" name=""/>
            <p:cNvGrpSpPr/>
            <p:nvPr/>
          </p:nvGrpSpPr>
          <p:grpSpPr>
            <a:xfrm>
              <a:off x="5486400" y="1676520"/>
              <a:ext cx="380880" cy="304560"/>
              <a:chOff x="5486400" y="1676520"/>
              <a:chExt cx="380880" cy="304560"/>
            </a:xfrm>
          </p:grpSpPr>
          <p:sp>
            <p:nvSpPr>
              <p:cNvPr id="358" name=""/>
              <p:cNvSpPr/>
              <p:nvPr/>
            </p:nvSpPr>
            <p:spPr>
              <a:xfrm>
                <a:off x="548640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56272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7162920" y="1066320"/>
              <a:ext cx="380880" cy="305280"/>
              <a:chOff x="7162920" y="1066320"/>
              <a:chExt cx="380880" cy="305280"/>
            </a:xfrm>
          </p:grpSpPr>
          <p:sp>
            <p:nvSpPr>
              <p:cNvPr id="361" name=""/>
              <p:cNvSpPr/>
              <p:nvPr/>
            </p:nvSpPr>
            <p:spPr>
              <a:xfrm>
                <a:off x="7162920" y="12193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7239240" y="10663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8305920" y="1142640"/>
              <a:ext cx="380880" cy="305280"/>
              <a:chOff x="8305920" y="1142640"/>
              <a:chExt cx="380880" cy="305280"/>
            </a:xfrm>
          </p:grpSpPr>
          <p:sp>
            <p:nvSpPr>
              <p:cNvPr id="364" name=""/>
              <p:cNvSpPr/>
              <p:nvPr/>
            </p:nvSpPr>
            <p:spPr>
              <a:xfrm>
                <a:off x="8305920" y="129564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8382240" y="1142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749520" y="1295280"/>
            <a:ext cx="4813200" cy="1790280"/>
            <a:chOff x="749520" y="1295280"/>
            <a:chExt cx="4813200" cy="1790280"/>
          </a:xfrm>
        </p:grpSpPr>
        <p:sp>
          <p:nvSpPr>
            <p:cNvPr id="367" name=""/>
            <p:cNvSpPr/>
            <p:nvPr/>
          </p:nvSpPr>
          <p:spPr>
            <a:xfrm flipV="1" rot="21162000">
              <a:off x="798120" y="1752480"/>
              <a:ext cx="4459320" cy="1054080"/>
            </a:xfrm>
            <a:prstGeom prst="triangle">
              <a:avLst>
                <a:gd name="adj" fmla="val 5072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1295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7160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67080" y="20574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4320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48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9718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35053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4052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8.9.Cos 148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4586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64 + 8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44Cos 148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51195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67.11 …           (suspicious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5729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16.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57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5780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410080" y="2133360"/>
            <a:ext cx="3200400" cy="914760"/>
            <a:chOff x="5410080" y="213336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08800" y="228636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83" name=""/>
            <p:cNvGrpSpPr/>
            <p:nvPr/>
          </p:nvGrpSpPr>
          <p:grpSpPr>
            <a:xfrm>
              <a:off x="5410080" y="2743560"/>
              <a:ext cx="380880" cy="304560"/>
              <a:chOff x="5410080" y="2743560"/>
              <a:chExt cx="380880" cy="304560"/>
            </a:xfrm>
          </p:grpSpPr>
          <p:sp>
            <p:nvSpPr>
              <p:cNvPr id="384" name=""/>
              <p:cNvSpPr/>
              <p:nvPr/>
            </p:nvSpPr>
            <p:spPr>
              <a:xfrm>
                <a:off x="5410080" y="289584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486400" y="274356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086600" y="2133360"/>
              <a:ext cx="380880" cy="305280"/>
              <a:chOff x="7086600" y="2133360"/>
              <a:chExt cx="380880" cy="305280"/>
            </a:xfrm>
          </p:grpSpPr>
          <p:sp>
            <p:nvSpPr>
              <p:cNvPr id="387" name=""/>
              <p:cNvSpPr/>
              <p:nvPr/>
            </p:nvSpPr>
            <p:spPr>
              <a:xfrm>
                <a:off x="7086600" y="228636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162920" y="213336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8229600" y="2209680"/>
              <a:ext cx="380880" cy="305280"/>
              <a:chOff x="8229600" y="2209680"/>
              <a:chExt cx="380880" cy="305280"/>
            </a:xfrm>
          </p:grpSpPr>
          <p:sp>
            <p:nvSpPr>
              <p:cNvPr id="390" name=""/>
              <p:cNvSpPr/>
              <p:nvPr/>
            </p:nvSpPr>
            <p:spPr>
              <a:xfrm>
                <a:off x="8229600" y="236268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305920" y="22096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300320" y="914400"/>
            <a:ext cx="4491000" cy="2109600"/>
            <a:chOff x="1300320" y="914400"/>
            <a:chExt cx="4491000" cy="2109600"/>
          </a:xfrm>
        </p:grpSpPr>
        <p:sp>
          <p:nvSpPr>
            <p:cNvPr id="393" name=""/>
            <p:cNvSpPr/>
            <p:nvPr/>
          </p:nvSpPr>
          <p:spPr>
            <a:xfrm>
              <a:off x="4496040" y="1828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21162000">
              <a:off x="1371240" y="1409400"/>
              <a:ext cx="3905280" cy="1371960"/>
            </a:xfrm>
            <a:prstGeom prst="triangle">
              <a:avLst>
                <a:gd name="adj" fmla="val 5072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976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9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6440" y="914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3204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838080" y="137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53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40528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19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19.30.Cos 32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586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61 + 900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140Cos 32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66680" y="51195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94.22 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5729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17.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5780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04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86400" y="1676160"/>
            <a:ext cx="3200400" cy="914760"/>
            <a:chOff x="5486400" y="167616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5685120" y="182916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09" name=""/>
            <p:cNvGrpSpPr/>
            <p:nvPr/>
          </p:nvGrpSpPr>
          <p:grpSpPr>
            <a:xfrm>
              <a:off x="5486400" y="2286360"/>
              <a:ext cx="380880" cy="304560"/>
              <a:chOff x="5486400" y="2286360"/>
              <a:chExt cx="380880" cy="304560"/>
            </a:xfrm>
          </p:grpSpPr>
          <p:sp>
            <p:nvSpPr>
              <p:cNvPr id="410" name=""/>
              <p:cNvSpPr/>
              <p:nvPr/>
            </p:nvSpPr>
            <p:spPr>
              <a:xfrm>
                <a:off x="5486400" y="243864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562720" y="228636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162920" y="1676160"/>
              <a:ext cx="380880" cy="305280"/>
              <a:chOff x="7162920" y="1676160"/>
              <a:chExt cx="380880" cy="3052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62920" y="182916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239240" y="167616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8305920" y="1752480"/>
              <a:ext cx="380880" cy="305280"/>
              <a:chOff x="8305920" y="1752480"/>
              <a:chExt cx="380880" cy="305280"/>
            </a:xfrm>
          </p:grpSpPr>
          <p:sp>
            <p:nvSpPr>
              <p:cNvPr id="416" name=""/>
              <p:cNvSpPr/>
              <p:nvPr/>
            </p:nvSpPr>
            <p:spPr>
              <a:xfrm>
                <a:off x="8305920" y="190548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8382240" y="17524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1300320" y="914400"/>
            <a:ext cx="4491000" cy="2109600"/>
            <a:chOff x="1300320" y="914400"/>
            <a:chExt cx="4491000" cy="2109600"/>
          </a:xfrm>
        </p:grpSpPr>
        <p:sp>
          <p:nvSpPr>
            <p:cNvPr id="419" name=""/>
            <p:cNvSpPr/>
            <p:nvPr/>
          </p:nvSpPr>
          <p:spPr>
            <a:xfrm>
              <a:off x="4496040" y="1828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1162000">
              <a:off x="1371240" y="1409400"/>
              <a:ext cx="3905280" cy="1371960"/>
            </a:xfrm>
            <a:prstGeom prst="triangle">
              <a:avLst>
                <a:gd name="adj" fmla="val 5072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7976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46440" y="914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5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3204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38080" y="137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8900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1 Cosine Rul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5780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431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434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437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838080" y="3351240"/>
                <a:ext cx="25909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35040" y="4341960"/>
                <a:ext cx="29970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297080" y="5283360"/>
                <a:ext cx="1622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683160" y="5310360"/>
                <a:ext cx="30225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 flipV="1" rot="1697400">
            <a:off x="1523520" y="1523520"/>
            <a:ext cx="2892600" cy="1392480"/>
          </a:xfrm>
          <a:prstGeom prst="triangle">
            <a:avLst>
              <a:gd name="adj" fmla="val 6534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67120" y="2057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1080" y="533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62120" y="3503520"/>
                <a:ext cx="2590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33520" y="4341960"/>
                <a:ext cx="32004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193760" y="5283360"/>
                <a:ext cx="18288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568680" y="5310360"/>
                <a:ext cx="3251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809880" y="26668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57440" y="2057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33600" y="1219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.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58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459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462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465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 flipV="1" rot="10877400">
            <a:off x="1678680" y="914400"/>
            <a:ext cx="2892600" cy="1697040"/>
          </a:xfrm>
          <a:prstGeom prst="triangle">
            <a:avLst>
              <a:gd name="adj" fmla="val 54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2133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2666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62120" y="3503520"/>
                <a:ext cx="2590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35040" y="4341960"/>
                <a:ext cx="29970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219320" y="5283360"/>
                <a:ext cx="17780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594240" y="5310360"/>
                <a:ext cx="3200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743200" y="2590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76200" y="1371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38520" y="12952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82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489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 the following leaving positive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57800" y="1773360"/>
                <a:ext cx="22860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0880" y="1700280"/>
                <a:ext cx="19051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69960" y="4118040"/>
                <a:ext cx="2349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24320" y="4149720"/>
                <a:ext cx="24130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52560" y="2886120"/>
                <a:ext cx="6984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057400" y="3156120"/>
                <a:ext cx="762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16600" y="2854440"/>
                <a:ext cx="5713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724360" y="3122640"/>
                <a:ext cx="889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10480" y="2906640"/>
                <a:ext cx="8571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96920" y="5229360"/>
                <a:ext cx="6667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763640" y="5516640"/>
                <a:ext cx="889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79560" y="5334120"/>
                <a:ext cx="6987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00720" y="5261040"/>
                <a:ext cx="984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24560" y="5261040"/>
                <a:ext cx="1143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77080" y="529272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 flipH="1" flipV="1" rot="19947600">
            <a:off x="1446840" y="1706040"/>
            <a:ext cx="3443040" cy="858960"/>
          </a:xfrm>
          <a:prstGeom prst="triangle">
            <a:avLst>
              <a:gd name="adj" fmla="val 5413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52720" y="2133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90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62120" y="3503520"/>
                <a:ext cx="2590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47640" y="4341960"/>
                <a:ext cx="29718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193760" y="5283360"/>
                <a:ext cx="18288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708360" y="5310360"/>
                <a:ext cx="33782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8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2209680" y="1371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62000" y="2514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19400" y="1676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6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507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510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513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½ a b s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1619280" y="1371600"/>
            <a:ext cx="5334120" cy="2745720"/>
            <a:chOff x="1619280" y="1371600"/>
            <a:chExt cx="5334120" cy="2745720"/>
          </a:xfrm>
        </p:grpSpPr>
        <p:sp>
          <p:nvSpPr>
            <p:cNvPr id="518" name=""/>
            <p:cNvSpPr/>
            <p:nvPr/>
          </p:nvSpPr>
          <p:spPr>
            <a:xfrm>
              <a:off x="1619280" y="1371600"/>
              <a:ext cx="5334120" cy="2286000"/>
            </a:xfrm>
            <a:prstGeom prst="triangle">
              <a:avLst>
                <a:gd name="adj" fmla="val 7348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81800" y="1371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52800" y="3200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62480" y="3657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90880" y="1981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c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95280" y="2588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87280" y="3429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580000" y="9079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20000" y="3500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116000" y="4124160"/>
                <a:ext cx="2035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087560" y="5060880"/>
                <a:ext cx="3124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116000" y="5994360"/>
                <a:ext cx="1776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4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4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2340000" y="1371600"/>
            <a:ext cx="5327640" cy="2745720"/>
            <a:chOff x="2340000" y="1371600"/>
            <a:chExt cx="5327640" cy="2745720"/>
          </a:xfrm>
        </p:grpSpPr>
        <p:sp>
          <p:nvSpPr>
            <p:cNvPr id="531" name=""/>
            <p:cNvSpPr/>
            <p:nvPr/>
          </p:nvSpPr>
          <p:spPr>
            <a:xfrm>
              <a:off x="2340000" y="1371600"/>
              <a:ext cx="4613400" cy="2286000"/>
            </a:xfrm>
            <a:prstGeom prst="triangle">
              <a:avLst>
                <a:gd name="adj" fmla="val 7348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67560" y="1371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78400" y="320040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1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13120" y="365760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48240" y="2035080"/>
              <a:ext cx="131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95280" y="2588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3414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8000" y="33415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96000" y="981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116000" y="4124160"/>
                <a:ext cx="2035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071720" y="5060880"/>
                <a:ext cx="29527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16000" y="5994360"/>
                <a:ext cx="16336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95280" y="2588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the Area correct to 3 sig f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56360" y="4494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124000" y="155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16720" y="162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4124160"/>
                <a:ext cx="2035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900000" y="5060880"/>
                <a:ext cx="32958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087560" y="5994360"/>
                <a:ext cx="2979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700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0" name=""/>
          <p:cNvGrpSpPr/>
          <p:nvPr/>
        </p:nvGrpSpPr>
        <p:grpSpPr>
          <a:xfrm>
            <a:off x="2536920" y="-15840"/>
            <a:ext cx="5226120" cy="4568760"/>
            <a:chOff x="2536920" y="-15840"/>
            <a:chExt cx="5226120" cy="4568760"/>
          </a:xfrm>
        </p:grpSpPr>
        <p:sp>
          <p:nvSpPr>
            <p:cNvPr id="551" name=""/>
            <p:cNvSpPr/>
            <p:nvPr/>
          </p:nvSpPr>
          <p:spPr>
            <a:xfrm rot="2170800">
              <a:off x="2766960" y="1125360"/>
              <a:ext cx="4613400" cy="2286000"/>
            </a:xfrm>
            <a:prstGeom prst="triangle">
              <a:avLst>
                <a:gd name="adj" fmla="val 68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67560" y="1371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24360" y="376380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43280" y="134136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5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43640" y="2827440"/>
              <a:ext cx="131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3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08360" y="306864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9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9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9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 the following leaving positive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167360" y="1773360"/>
                <a:ext cx="2666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50880" y="1700280"/>
                <a:ext cx="19051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8280" y="4149720"/>
                <a:ext cx="24127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67240" y="4118040"/>
                <a:ext cx="2127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52560" y="2886120"/>
                <a:ext cx="6984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7400" y="3156120"/>
                <a:ext cx="762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05360" y="2854440"/>
                <a:ext cx="7938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p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765760" y="3122640"/>
                <a:ext cx="1111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954840" y="2906640"/>
                <a:ext cx="8571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2760" y="5261040"/>
                <a:ext cx="6350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27360" y="5564160"/>
                <a:ext cx="761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627280" y="5651640"/>
                <a:ext cx="571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437000" y="5261040"/>
                <a:ext cx="11113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08720" y="5261040"/>
                <a:ext cx="11746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7080" y="529272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y the following s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389480" y="2027160"/>
                <a:ext cx="2222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92120" y="1954080"/>
                <a:ext cx="2222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9640" y="4149720"/>
                <a:ext cx="2254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427640" y="4149720"/>
                <a:ext cx="32702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7520" y="3124080"/>
                <a:ext cx="142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82800" y="312408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54720" y="3122640"/>
                <a:ext cx="1428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205760" y="313200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14400" y="5013360"/>
                <a:ext cx="1397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11280" y="5013360"/>
                <a:ext cx="1111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576760" y="4797360"/>
                <a:ext cx="2667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5373720"/>
                <a:ext cx="1873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338880" y="5952960"/>
                <a:ext cx="825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y the following s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611600" y="2027160"/>
                <a:ext cx="1778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0080" y="1954080"/>
                <a:ext cx="1746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93800" y="4149720"/>
                <a:ext cx="1746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5600" y="4149720"/>
                <a:ext cx="2793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3360" y="3124080"/>
                <a:ext cx="1396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82800" y="3139920"/>
                <a:ext cx="11113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470560" y="3122640"/>
                <a:ext cx="1396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05760" y="313200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3160" y="5013360"/>
                <a:ext cx="161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5029200"/>
                <a:ext cx="111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576760" y="4797360"/>
                <a:ext cx="2667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5373720"/>
                <a:ext cx="1873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38880" y="5952960"/>
                <a:ext cx="825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9079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Remember looking for square factors – 4,9,16,25,3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000" y="189000"/>
            <a:ext cx="625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Find the exact length of each missing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125360"/>
            <a:ext cx="2082240" cy="2989800"/>
            <a:chOff x="762120" y="1125360"/>
            <a:chExt cx="2082240" cy="2989800"/>
          </a:xfrm>
        </p:grpSpPr>
        <p:sp>
          <p:nvSpPr>
            <p:cNvPr id="114" name=""/>
            <p:cNvSpPr/>
            <p:nvPr/>
          </p:nvSpPr>
          <p:spPr>
            <a:xfrm>
              <a:off x="1485720" y="1125360"/>
              <a:ext cx="1053720" cy="2209680"/>
            </a:xfrm>
            <a:prstGeom prst="rtTriangl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2115720"/>
              <a:ext cx="68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7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38360" y="3411360"/>
              <a:ext cx="68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58920" y="196344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85720" y="3106440"/>
              <a:ext cx="22824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911920" y="765000"/>
            <a:ext cx="2209680" cy="2571840"/>
            <a:chOff x="5911920" y="765000"/>
            <a:chExt cx="2209680" cy="2571840"/>
          </a:xfrm>
        </p:grpSpPr>
        <p:sp>
          <p:nvSpPr>
            <p:cNvPr id="120" name=""/>
            <p:cNvSpPr/>
            <p:nvPr/>
          </p:nvSpPr>
          <p:spPr>
            <a:xfrm rot="10800000">
              <a:off x="5968800" y="1127160"/>
              <a:ext cx="1523880" cy="22096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35800" y="18702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11920" y="19270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78640" y="765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7264080" y="112680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17120" y="4118040"/>
            <a:ext cx="183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+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6280" y="4592520"/>
            <a:ext cx="245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49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1080" y="56610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 = 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79400" y="5102280"/>
            <a:ext cx="3071520" cy="459720"/>
            <a:chOff x="779400" y="5102280"/>
            <a:chExt cx="3071520" cy="459720"/>
          </a:xfrm>
        </p:grpSpPr>
        <p:sp>
          <p:nvSpPr>
            <p:cNvPr id="129" name=""/>
            <p:cNvSpPr/>
            <p:nvPr/>
          </p:nvSpPr>
          <p:spPr>
            <a:xfrm>
              <a:off x="779400" y="510228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0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4240" y="517212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455800" y="4005360"/>
            <a:ext cx="178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-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5640" y="4479840"/>
            <a:ext cx="245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64 -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5635800"/>
            <a:ext cx="30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 = 2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435640" y="5003640"/>
            <a:ext cx="3071520" cy="459720"/>
            <a:chOff x="5435640" y="5003640"/>
            <a:chExt cx="3071520" cy="459720"/>
          </a:xfrm>
        </p:grpSpPr>
        <p:sp>
          <p:nvSpPr>
            <p:cNvPr id="135" name=""/>
            <p:cNvSpPr/>
            <p:nvPr/>
          </p:nvSpPr>
          <p:spPr>
            <a:xfrm>
              <a:off x="5435640" y="500364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8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0480" y="507348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al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f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17720" y="2511360"/>
                <a:ext cx="3049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m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each of the following as s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675320" y="1979640"/>
                <a:ext cx="1650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3800" y="1906560"/>
                <a:ext cx="1619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003320" y="4324320"/>
                <a:ext cx="1682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8480" y="4324320"/>
                <a:ext cx="1904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46200" y="3108240"/>
                <a:ext cx="793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7</m:t>
                        </m:r>
                      </m:deg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65680" y="3092400"/>
                <a:ext cx="635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66720" y="5229360"/>
                <a:ext cx="6667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68600" y="5262480"/>
                <a:ext cx="1079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67160" y="5229360"/>
                <a:ext cx="8892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222960" y="5245200"/>
                <a:ext cx="1301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3:37Z</dcterms:created>
  <dc:creator/>
  <dc:description/>
  <dc:language>en-US</dc:language>
  <cp:lastModifiedBy/>
  <dcterms:modified xsi:type="dcterms:W3CDTF">2007-02-23T14:36:27Z</dcterms:modified>
  <cp:revision>13</cp:revision>
  <dc:subject/>
  <dc:title>Credit Revision</dc:title>
</cp:coreProperties>
</file>